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9"/>
          </p:nvPr>
        </p:nvSpPr>
        <p:spPr>
          <a:xfrm>
            <a:off x="384948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78CC-10ED-42D9-BE0D-6123C5F1A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A18-D84E-420E-A50F-D61C930A3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DDA6-9190-4F05-8376-3636A444CA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E807-007E-41EB-A5C8-7911309C73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A49D-0DC9-44D3-9DC9-F0D3A90CDA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B8FE-8122-4609-81EE-BE2F2A4085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FC42-822E-4752-BEF3-9FA9AF78D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6C2C-45DC-4DE4-8B3F-46307AFEAA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9EC0-D957-47A7-9CEE-17EB7871E1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C18E-47AD-44B5-B917-F1158E4FC6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B627-C5F2-44A1-B185-63CD1F2656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8E87-A8A6-44F7-B3D1-4DAAE09818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FC16-9E31-4254-923F-C5A829E88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A2BA-8443-40FB-A5BE-5EE37E63FD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41F62-670A-4E1E-A8ED-B318D94AFB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6D01-F57D-4DA5-96D2-8895996AE9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5FE4E-4B31-4107-A249-B78A52346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43F59-7F16-47D4-9F88-4A388E9396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CDB6C-F788-44CE-94DA-A0378FAFDA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AE85D-439C-48E8-BBCC-CF72F11138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E80A8-A391-4AAD-84EC-1310F47F77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2B90C-6F82-4215-82B8-1B0030497A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3D6A-0423-4EBF-BD7B-781DCC12C5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751D0-5274-4221-B0D8-78D4C3931C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CCCB6-ADEF-4731-9E6F-19BE1F7149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978DE-37D5-4CD7-8CDB-9CBCE4DC0C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05FA-1B1F-4364-9F07-0B26216D2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6842-0811-4F1B-8DBB-9694129983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625-B098-487B-9132-D4F4A913D5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C891-EBD8-4D56-902A-10834C3B59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5E5A-D029-41A4-89E0-110F04633E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812A-714D-4D22-85A7-C84CFA6786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EF03-8380-41D1-9EC7-90A4CE9730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C0D-D5E7-45CF-95D4-CD067C42E8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085-3846-425E-86F6-25C1DBCCEF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994-75A5-43A3-9F3E-C1952A3B33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024-E919-4498-B117-620BEBCAF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85D-3128-47DA-A32A-8E3878638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2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3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44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45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C6A5-CEE2-4CDA-BE32-1D5003215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89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B38-12E9-403B-8975-3DFEDB079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FD23-36D1-47C7-B8A0-B2B52299D7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134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135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B02-AB2C-45C0-B9DD-B0F67D35F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106-4085-4BA5-B50B-B6502C93976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180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181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681-64AB-49BF-B4A4-F557856DC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DBE-DB8C-49EE-A1F6-E1D1546FA10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Methods of transfer of ultra-stable frequencies to radio telescope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403280" y="2852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А.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Tsaruk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, А.</a:t>
            </a: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Vytnov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D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Ivanov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95280" y="558972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rd International VLBI Technology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Groningen/Dwingeloo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68360" y="4221000"/>
            <a:ext cx="8207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2"/>
                </a:solidFill>
                <a:latin typeface="Arial"/>
              </a:rPr>
              <a:t>Institute of Applied Astr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2"/>
                </a:solidFill>
                <a:latin typeface="Arial"/>
              </a:rPr>
              <a:t>of Russian Academy of Scienc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6684840" y="2227320"/>
            <a:ext cx="2351160" cy="3562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2"/>
          <p:cNvSpPr/>
          <p:nvPr/>
        </p:nvSpPr>
        <p:spPr>
          <a:xfrm>
            <a:off x="5511960" y="1192320"/>
            <a:ext cx="28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nna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379440" y="119232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4" descr=""/>
          <p:cNvPicPr/>
          <p:nvPr/>
        </p:nvPicPr>
        <p:blipFill>
          <a:blip r:embed="rId2"/>
          <a:stretch/>
        </p:blipFill>
        <p:spPr>
          <a:xfrm>
            <a:off x="3781440" y="1839960"/>
            <a:ext cx="2854440" cy="23256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"/>
          <p:cNvPicPr/>
          <p:nvPr/>
        </p:nvPicPr>
        <p:blipFill>
          <a:blip r:embed="rId3"/>
          <a:stretch/>
        </p:blipFill>
        <p:spPr>
          <a:xfrm>
            <a:off x="3781440" y="4525920"/>
            <a:ext cx="2795400" cy="17463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6" descr=""/>
          <p:cNvPicPr/>
          <p:nvPr/>
        </p:nvPicPr>
        <p:blipFill>
          <a:blip r:embed="rId4"/>
          <a:stretch/>
        </p:blipFill>
        <p:spPr>
          <a:xfrm>
            <a:off x="96840" y="2023920"/>
            <a:ext cx="3565440" cy="1386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7" descr=""/>
          <p:cNvPicPr/>
          <p:nvPr/>
        </p:nvPicPr>
        <p:blipFill>
          <a:blip r:embed="rId5"/>
          <a:stretch/>
        </p:blipFill>
        <p:spPr>
          <a:xfrm>
            <a:off x="88920" y="3722760"/>
            <a:ext cx="3573360" cy="2181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1506240" y="54936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 th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ference frequenc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2" descr=""/>
          <p:cNvPicPr/>
          <p:nvPr/>
        </p:nvPicPr>
        <p:blipFill>
          <a:blip r:embed="rId1"/>
          <a:stretch/>
        </p:blipFill>
        <p:spPr>
          <a:xfrm>
            <a:off x="5702400" y="3840120"/>
            <a:ext cx="2998800" cy="23497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"/>
          <p:cNvPicPr/>
          <p:nvPr/>
        </p:nvPicPr>
        <p:blipFill>
          <a:blip r:embed="rId2"/>
          <a:stretch/>
        </p:blipFill>
        <p:spPr>
          <a:xfrm>
            <a:off x="2776680" y="3894120"/>
            <a:ext cx="2395440" cy="23320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"/>
          <p:cNvPicPr/>
          <p:nvPr/>
        </p:nvPicPr>
        <p:blipFill>
          <a:blip r:embed="rId3"/>
          <a:stretch/>
        </p:blipFill>
        <p:spPr>
          <a:xfrm>
            <a:off x="2843280" y="1484280"/>
            <a:ext cx="2262240" cy="221292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2320" y="3749760"/>
            <a:ext cx="25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"/>
              </a:rPr>
              <a:t>Temperature 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8"/>
          <p:cNvSpPr/>
          <p:nvPr/>
        </p:nvSpPr>
        <p:spPr>
          <a:xfrm>
            <a:off x="22320" y="2309760"/>
            <a:ext cx="25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ipple and 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-127080" y="4713120"/>
            <a:ext cx="3062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The internal temper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+35˚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t an external temperatur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+5˚С...+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˚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1394640" y="549360"/>
            <a:ext cx="6586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 the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ference frequ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tenna pa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"/>
          <p:cNvSpPr/>
          <p:nvPr/>
        </p:nvSpPr>
        <p:spPr>
          <a:xfrm>
            <a:off x="130320" y="1517760"/>
            <a:ext cx="259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"/>
              </a:rPr>
              <a:t>Supply 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1" descr=""/>
          <p:cNvPicPr/>
          <p:nvPr/>
        </p:nvPicPr>
        <p:blipFill>
          <a:blip r:embed="rId4"/>
          <a:stretch/>
        </p:blipFill>
        <p:spPr>
          <a:xfrm>
            <a:off x="5364000" y="1482840"/>
            <a:ext cx="342432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6"/>
          <p:cNvSpPr/>
          <p:nvPr/>
        </p:nvSpPr>
        <p:spPr>
          <a:xfrm>
            <a:off x="3854160" y="4762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257040" y="1125360"/>
            <a:ext cx="8659800" cy="52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3463560" y="73188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236520" y="1484280"/>
            <a:ext cx="85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The device is developed for the reference signal transmission to the radio telescope, allowing to transmit the signal of the reference frequency by optical and RF cable</a:t>
            </a: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Introduced frequency instability in both methods of transfer reference frequency  avoids the coherence loses greater than 1% on time interval of 1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At the moment there is an installation of the designed formation block of the reference frequency on the radio telescopes RT-13 produced by IAA RAS. Their future operation will show efficiency of the proposed methods for transmitting reference frequency on the radio telescope in re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Users\Алексей\Desktop\кабельные трассы\зеленчук\100NIKON\DSCN8215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Arial"/>
                <a:ea typeface="Arial"/>
              </a:rPr>
              <a:t>Thank you</a:t>
            </a:r>
            <a:r>
              <a:rPr b="1" i="1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бъект 2"/>
          <p:cNvSpPr/>
          <p:nvPr/>
        </p:nvSpPr>
        <p:spPr>
          <a:xfrm>
            <a:off x="358920" y="428760"/>
            <a:ext cx="4913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2"/>
                </a:solidFill>
                <a:latin typeface="Arial"/>
                <a:ea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бъект 2"/>
          <p:cNvSpPr/>
          <p:nvPr/>
        </p:nvSpPr>
        <p:spPr>
          <a:xfrm>
            <a:off x="684360" y="1700280"/>
            <a:ext cx="49132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ъект 2"/>
          <p:cNvSpPr/>
          <p:nvPr/>
        </p:nvSpPr>
        <p:spPr>
          <a:xfrm>
            <a:off x="387360" y="2565360"/>
            <a:ext cx="717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384120" y="149076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methods of reference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49000" y="5084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бъект 2"/>
          <p:cNvSpPr/>
          <p:nvPr/>
        </p:nvSpPr>
        <p:spPr>
          <a:xfrm>
            <a:off x="414360" y="3716280"/>
            <a:ext cx="792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 forming th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reference frequen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836280"/>
            <a:ext cx="856908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imated frequency instability which must be provided for coherence losses less than 1% on 1 hour integration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28320" y="404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нестабильность3"/>
          <p:cNvPicPr/>
          <p:nvPr/>
        </p:nvPicPr>
        <p:blipFill>
          <a:blip r:embed="rId1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нестабильность2"/>
          <p:cNvPicPr/>
          <p:nvPr/>
        </p:nvPicPr>
        <p:blipFill>
          <a:blip r:embed="rId2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нестабильность1"/>
          <p:cNvPicPr/>
          <p:nvPr/>
        </p:nvPicPr>
        <p:blipFill>
          <a:blip r:embed="rId3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"/>
          <p:cNvSpPr/>
          <p:nvPr/>
        </p:nvSpPr>
        <p:spPr>
          <a:xfrm>
            <a:off x="468360" y="6211800"/>
            <a:ext cx="85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A Transactions, 2006, V.15, P. 140-155 [Trudy IAA RAS(in russian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395280" y="1773360"/>
            <a:ext cx="8058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of the 100 MHz signal via RF cable wit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of the 5 MHz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RF cable wit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mplif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ion of the optical signal by radio frequency 100 MHz and its transmission via fiber optic cable with demodulation on the radio tele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95280" y="4968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method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eference frequency 100MHz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 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793800" y="4968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methods of reference frequency 100MHz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 the radiotele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690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2"/>
          <p:cNvSpPr/>
          <p:nvPr/>
        </p:nvSpPr>
        <p:spPr>
          <a:xfrm>
            <a:off x="179280" y="907920"/>
            <a:ext cx="8739360" cy="54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2" descr=""/>
          <p:cNvPicPr/>
          <p:nvPr/>
        </p:nvPicPr>
        <p:blipFill>
          <a:blip r:embed="rId1"/>
          <a:stretch/>
        </p:blipFill>
        <p:spPr>
          <a:xfrm>
            <a:off x="6226200" y="4408560"/>
            <a:ext cx="2641680" cy="1863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3"/>
          <p:cNvSpPr/>
          <p:nvPr/>
        </p:nvSpPr>
        <p:spPr>
          <a:xfrm>
            <a:off x="1692360" y="981000"/>
            <a:ext cx="60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LOW NOISE FREQUENCY MULTIPLIER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4"/>
          <p:cNvSpPr/>
          <p:nvPr/>
        </p:nvSpPr>
        <p:spPr>
          <a:xfrm>
            <a:off x="395280" y="371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STRIBUTION 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877080" y="4005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IXED 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31" descr="FS020"/>
          <p:cNvPicPr/>
          <p:nvPr/>
        </p:nvPicPr>
        <p:blipFill>
          <a:blip r:embed="rId2"/>
          <a:stretch/>
        </p:blipFill>
        <p:spPr>
          <a:xfrm>
            <a:off x="395280" y="1844640"/>
            <a:ext cx="2400480" cy="15238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32" descr="FS100"/>
          <p:cNvPicPr/>
          <p:nvPr/>
        </p:nvPicPr>
        <p:blipFill>
          <a:blip r:embed="rId3"/>
          <a:stretch/>
        </p:blipFill>
        <p:spPr>
          <a:xfrm>
            <a:off x="6432480" y="1430280"/>
            <a:ext cx="1957320" cy="25178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9"/>
          <p:cNvSpPr/>
          <p:nvPr/>
        </p:nvSpPr>
        <p:spPr>
          <a:xfrm>
            <a:off x="3029040" y="1724040"/>
            <a:ext cx="280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Ultra-Low Phase Noise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43 dBc/Hz @ 1 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0 dBc/Hz @ 1 k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6 dBc/Hz @ 10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3276720" y="443700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Low phase noise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58 dBc/Hz @ 10 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2 dBc/Hz @ 1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IMAG0347"/>
          <p:cNvPicPr/>
          <p:nvPr/>
        </p:nvPicPr>
        <p:blipFill>
          <a:blip r:embed="rId4"/>
          <a:stretch/>
        </p:blipFill>
        <p:spPr>
          <a:xfrm>
            <a:off x="455760" y="4125960"/>
            <a:ext cx="2387520" cy="2146320"/>
          </a:xfrm>
          <a:prstGeom prst="rect">
            <a:avLst/>
          </a:prstGeom>
          <a:ln w="0">
            <a:noFill/>
          </a:ln>
        </p:spPr>
      </p:pic>
      <p:sp>
        <p:nvSpPr>
          <p:cNvPr id="261" name="Объект 2"/>
          <p:cNvSpPr/>
          <p:nvPr/>
        </p:nvSpPr>
        <p:spPr>
          <a:xfrm>
            <a:off x="3203640" y="40464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3"/>
          <p:cNvSpPr/>
          <p:nvPr/>
        </p:nvSpPr>
        <p:spPr>
          <a:xfrm>
            <a:off x="125892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3"/>
          <p:cNvSpPr/>
          <p:nvPr/>
        </p:nvSpPr>
        <p:spPr>
          <a:xfrm>
            <a:off x="781200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392436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AMPLIFIER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50920" y="3500280"/>
          <a:ext cx="2582640" cy="2521080"/>
        </p:xfrm>
        <a:graphic>
          <a:graphicData uri="http://schemas.openxmlformats.org/drawingml/2006/table">
            <a:tbl>
              <a:tblPr/>
              <a:tblGrid>
                <a:gridCol w="1466640"/>
                <a:gridCol w="1116000"/>
              </a:tblGrid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optical atten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Intensity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6" name="Рисунок 1315" descr="dmpo131&amp;155-21-img_2402-photo-big"/>
          <p:cNvPicPr/>
          <p:nvPr/>
        </p:nvPicPr>
        <p:blipFill>
          <a:blip r:embed="rId1"/>
          <a:stretch/>
        </p:blipFill>
        <p:spPr>
          <a:xfrm>
            <a:off x="260280" y="1398600"/>
            <a:ext cx="2583000" cy="17604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9"/>
          <p:cNvSpPr/>
          <p:nvPr/>
        </p:nvSpPr>
        <p:spPr>
          <a:xfrm>
            <a:off x="108000" y="9079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1319" descr="dfdmsh70-06-img_4117-photo-big"/>
          <p:cNvPicPr/>
          <p:nvPr/>
        </p:nvPicPr>
        <p:blipFill>
          <a:blip r:embed="rId2"/>
          <a:stretch/>
        </p:blipFill>
        <p:spPr>
          <a:xfrm>
            <a:off x="3392640" y="1398600"/>
            <a:ext cx="2271600" cy="17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3132000" y="3500280"/>
          <a:ext cx="2571840" cy="2522520"/>
        </p:xfrm>
        <a:graphic>
          <a:graphicData uri="http://schemas.openxmlformats.org/drawingml/2006/table">
            <a:tbl>
              <a:tblPr/>
              <a:tblGrid>
                <a:gridCol w="1454400"/>
                <a:gridCol w="1117440"/>
              </a:tblGrid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esponse irregulari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3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7000 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13"/>
          <p:cNvSpPr/>
          <p:nvPr/>
        </p:nvSpPr>
        <p:spPr>
          <a:xfrm>
            <a:off x="3265560" y="90792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317" descr="optical-isolator-p1030653-photo-big"/>
          <p:cNvPicPr/>
          <p:nvPr/>
        </p:nvPicPr>
        <p:blipFill>
          <a:blip r:embed="rId3"/>
          <a:stretch/>
        </p:blipFill>
        <p:spPr>
          <a:xfrm>
            <a:off x="6084720" y="1387440"/>
            <a:ext cx="2946600" cy="17715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5"/>
          <p:cNvSpPr/>
          <p:nvPr/>
        </p:nvSpPr>
        <p:spPr>
          <a:xfrm>
            <a:off x="5664240" y="443700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cir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1321" descr="циркулятор фото"/>
          <p:cNvPicPr/>
          <p:nvPr/>
        </p:nvPicPr>
        <p:blipFill>
          <a:blip r:embed="rId4"/>
          <a:stretch/>
        </p:blipFill>
        <p:spPr>
          <a:xfrm>
            <a:off x="5959440" y="4970520"/>
            <a:ext cx="307188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6227640" y="3500280"/>
          <a:ext cx="2570400" cy="935280"/>
        </p:xfrm>
        <a:graphic>
          <a:graphicData uri="http://schemas.openxmlformats.org/drawingml/2006/table">
            <a:tbl>
              <a:tblPr/>
              <a:tblGrid>
                <a:gridCol w="1452600"/>
                <a:gridCol w="1117800"/>
              </a:tblGrid>
              <a:tr h="2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er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Объект 2"/>
          <p:cNvSpPr/>
          <p:nvPr/>
        </p:nvSpPr>
        <p:spPr>
          <a:xfrm>
            <a:off x="3203640" y="40464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3"/>
          <p:cNvSpPr/>
          <p:nvPr/>
        </p:nvSpPr>
        <p:spPr>
          <a:xfrm>
            <a:off x="6300720" y="90792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iso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16"/>
          <p:cNvGraphicFramePr/>
          <p:nvPr/>
        </p:nvGraphicFramePr>
        <p:xfrm>
          <a:off x="468360" y="907920"/>
          <a:ext cx="813744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1374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Объект 2"/>
          <p:cNvSpPr/>
          <p:nvPr/>
        </p:nvSpPr>
        <p:spPr>
          <a:xfrm>
            <a:off x="108000" y="404640"/>
            <a:ext cx="87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frequency transmission via fiber 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Объект 2"/>
          <p:cNvSpPr/>
          <p:nvPr/>
        </p:nvSpPr>
        <p:spPr>
          <a:xfrm>
            <a:off x="108000" y="404640"/>
            <a:ext cx="87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delay compens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плата"/>
          <p:cNvPicPr/>
          <p:nvPr/>
        </p:nvPicPr>
        <p:blipFill>
          <a:blip r:embed="rId1"/>
          <a:stretch/>
        </p:blipFill>
        <p:spPr>
          <a:xfrm>
            <a:off x="5132520" y="909720"/>
            <a:ext cx="3846240" cy="25718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" descr=""/>
          <p:cNvPicPr/>
          <p:nvPr/>
        </p:nvPicPr>
        <p:blipFill>
          <a:blip r:embed="rId2"/>
          <a:stretch/>
        </p:blipFill>
        <p:spPr>
          <a:xfrm>
            <a:off x="2916360" y="3664080"/>
            <a:ext cx="6078240" cy="288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"/>
          <p:cNvPicPr/>
          <p:nvPr/>
        </p:nvPicPr>
        <p:blipFill>
          <a:blip r:embed="rId3"/>
          <a:stretch/>
        </p:blipFill>
        <p:spPr>
          <a:xfrm>
            <a:off x="122400" y="909720"/>
            <a:ext cx="4910040" cy="489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46:24Z</dcterms:created>
  <dc:creator>Алексей Царук</dc:creator>
  <dc:description/>
  <dc:language>en-US</dc:language>
  <cp:lastModifiedBy>Алексей Царук</cp:lastModifiedBy>
  <dcterms:modified xsi:type="dcterms:W3CDTF">2014-11-11T16:28:33Z</dcterms:modified>
  <cp:revision>159</cp:revision>
  <dc:subject/>
  <dc:title>Слайд 1</dc:title>
</cp:coreProperties>
</file>